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1BA0-35D9-470B-A1EF-8EF730B8C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me Of My Book Is The Gift Of The Crocod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0E7C-7D39-4919-91C8-48CAF5885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89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C6DB-9DF1-4004-8C04-383CC221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05E4-70E8-466E-BC06-5E33544F3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33523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33523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895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895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895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C658-517C-4DDD-B31A-D059AFB49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C1A4-DD5B-4139-B2F9-440C17C2C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8EA0-FD03-4C32-B56E-0DDA97D4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8FCA-86B0-4BBF-8B4F-B30953E9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E473-ABE2-40BF-8655-4993AB5B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AEA8-B533-4B73-A0CF-264D0E0F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0578-B26A-4C46-87E5-46518187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6BE8-AE7F-4519-95A3-6C616BD0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9F50-F85F-4F2D-A7C0-6A33C803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AA6E-980E-43A7-8BCE-93B5EF2D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89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E7F2E-40AF-47DC-B117-E1F898D8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89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FE17-DB95-41A2-9678-4B42E501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644B-4302-4E6D-B14D-E7DD91735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33523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33523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895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9895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9895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1559-AED5-4AB4-8D0A-B70DA87DA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06AD-001D-452A-8CC5-900C5789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0B5D-6802-42D5-88ED-0663DD27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0B71-1EA8-4E0E-9D31-0304B6F8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2A9A-A711-489F-8B91-8ACB9924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12F1-38C5-4A95-A945-932BC1CF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96A2-BEF5-48D7-9780-1444F5DD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89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4F42-FBB2-435B-9312-A90D6EAA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70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70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70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D8F8-EC2D-4FF8-950C-52D0F0BAAA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AFB2-0289-4520-874D-BC6B575B55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6c9"/>
                </a:solidFill>
                <a:latin typeface="Brush Script MT"/>
              </a:rPr>
              <a:t>Destinee`s Story Starter</a:t>
            </a:r>
            <a:r>
              <a:rPr b="0" lang="en-US" sz="4400" spc="-1" strike="noStrike">
                <a:solidFill>
                  <a:srgbClr val="ffcc66"/>
                </a:solidFill>
                <a:latin typeface="Brush Script MT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Brush Script MT"/>
              </a:rPr>
              <a:t>    </a:t>
            </a:r>
            <a:r>
              <a:rPr b="0" lang="en-US" sz="4400" spc="-1" strike="noStrike">
                <a:solidFill>
                  <a:srgbClr val="ff36c9"/>
                </a:solidFill>
                <a:latin typeface="Blackmoor LET"/>
              </a:rPr>
              <a:t>Cinderella should get her fairy</a:t>
            </a:r>
            <a:r>
              <a:rPr b="0" lang="en-US" sz="4400" spc="-1" strike="noStrike">
                <a:solidFill>
                  <a:srgbClr val="ff36c9"/>
                </a:solidFill>
                <a:latin typeface="Brush Script MT"/>
              </a:rPr>
              <a:t> </a:t>
            </a:r>
            <a:r>
              <a:rPr b="0" lang="en-US" sz="4400" spc="-1" strike="noStrike">
                <a:solidFill>
                  <a:srgbClr val="ff36c9"/>
                </a:solidFill>
                <a:latin typeface="Blackmoor LET"/>
              </a:rPr>
              <a:t>godmother to wish her a new</a:t>
            </a:r>
            <a:r>
              <a:rPr b="0" lang="en-US" sz="4400" spc="-1" strike="noStrike">
                <a:solidFill>
                  <a:srgbClr val="ff36c9"/>
                </a:solidFill>
                <a:latin typeface="Brush Script MT"/>
              </a:rPr>
              <a:t> </a:t>
            </a:r>
            <a:r>
              <a:rPr b="0" lang="en-US" sz="4400" spc="-1" strike="noStrike">
                <a:solidFill>
                  <a:srgbClr val="ff36c9"/>
                </a:solidFill>
                <a:latin typeface="Blackmoor LET"/>
              </a:rPr>
              <a:t>carriage.Cinderella should just walk</a:t>
            </a:r>
            <a:r>
              <a:rPr b="0" lang="en-US" sz="4400" spc="-1" strike="noStrike">
                <a:solidFill>
                  <a:srgbClr val="ff36c9"/>
                </a:solidFill>
                <a:latin typeface="Brush Script MT"/>
              </a:rPr>
              <a:t> </a:t>
            </a:r>
            <a:r>
              <a:rPr b="0" lang="en-US" sz="4400" spc="-1" strike="noStrike">
                <a:solidFill>
                  <a:srgbClr val="ff36c9"/>
                </a:solidFill>
                <a:latin typeface="Blackmoor LET"/>
              </a:rPr>
              <a:t>depending on </a:t>
            </a:r>
            <a:br>
              <a:rPr sz="4400"/>
            </a:br>
            <a:r>
              <a:rPr b="0" lang="en-US" sz="4400" spc="-1" strike="noStrike">
                <a:solidFill>
                  <a:srgbClr val="ff36c9"/>
                </a:solidFill>
                <a:latin typeface="Blackmoor LET"/>
              </a:rPr>
              <a:t>how far the palace is from where Cinderella is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5791320" y="698400"/>
            <a:ext cx="3657600" cy="2425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8742240" y="6456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238880" y="304920"/>
            <a:ext cx="962280" cy="914400"/>
          </a:xfrm>
          <a:prstGeom prst="star5">
            <a:avLst/>
          </a:prstGeom>
          <a:solidFill>
            <a:srgbClr val="c88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52280"/>
            <a:ext cx="761760" cy="1295640"/>
          </a:xfrm>
          <a:prstGeom prst="star5">
            <a:avLst/>
          </a:prstGeom>
          <a:solidFill>
            <a:srgbClr val="c88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86600" y="6019920"/>
            <a:ext cx="1644480" cy="609480"/>
          </a:xfrm>
          <a:prstGeom prst="leftArrowCallout">
            <a:avLst>
              <a:gd name="adj1" fmla="val 25002"/>
              <a:gd name="adj2" fmla="val 25000"/>
              <a:gd name="adj3" fmla="val 44969"/>
              <a:gd name="adj4" fmla="val 66673"/>
            </a:avLst>
          </a:prstGeom>
          <a:solidFill>
            <a:srgbClr val="ff00ff">
              <a:alpha val="6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ts Mits</cp:lastModifiedBy>
  <dcterms:modified xsi:type="dcterms:W3CDTF">2009-05-27T16:45:42Z</dcterms:modified>
  <cp:revision>1</cp:revision>
  <dc:subject/>
  <dc:title>Destinee`s Story Starter       Cinderella should get her fairy godmother to wish her a new carriage.Cinderella should just walk depending on  how far the palace is from where Cinderella is.</dc:title>
</cp:coreProperties>
</file>