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896A-D0B2-42B2-B854-04B479758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My Book Is The Gift Of The Crocod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2D2-EBC4-4CAB-802D-A4B5F015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98F-BB6F-41A1-A01E-318C7819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FAA-6356-484D-9127-968A896A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6E6-E0CF-4D66-84D4-E9132F86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3E05-1BCB-494F-8915-A2A73A1E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146B-1C91-421A-8442-3683E1A7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3E37-FD5D-49CC-9080-026BB356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7630-E9F4-4E99-8D1A-954701FC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E6A1-DAAA-49AF-93D4-F98DF749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C429-5D09-4580-9E18-F2778B1F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DB18-C472-4114-BBD1-7ACF050F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010-2812-44DC-B5AF-846A2678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5F00-D6E3-4C79-B587-C0B9C1AD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2BEA-B983-49CD-87E2-0800D67D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5153-F740-4EB0-BCCA-6D93762C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E0CB-20C6-4316-99CD-A293AE12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922D-1D42-49C5-BBFB-D39FB53F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33A-00AE-4D5E-A113-BCD17B60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4C1-CFF8-4A8F-B49F-90F50149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FE0-8306-4CEA-9612-E3E06CF8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D7F-E1E3-4C2F-9A00-850A8A5F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DE9-F370-47D9-8B7E-64EBA6C8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D0D-CC82-4AFE-801F-D7B07E8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8F1-4B05-42E4-A9ED-9FF78B2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F3F6-85D8-46F1-A8F6-897FDACBE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C248-E133-4419-AFF0-F1853C43A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Destinee`s Story Starter</a:t>
            </a: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   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inderella should get her fairy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godmother to wish her a new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arriage.Cinderella should just walk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depending on </a:t>
            </a:r>
            <a:br>
              <a:rPr sz="4400"/>
            </a:b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how far the palace is from where Cinderella i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791320" y="69840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38880" y="304920"/>
            <a:ext cx="962280" cy="91440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2280"/>
            <a:ext cx="761760" cy="129564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019920"/>
            <a:ext cx="1644480" cy="609480"/>
          </a:xfrm>
          <a:prstGeom prst="leftArrowCallout">
            <a:avLst>
              <a:gd name="adj1" fmla="val 25002"/>
              <a:gd name="adj2" fmla="val 25000"/>
              <a:gd name="adj3" fmla="val 44969"/>
              <a:gd name="adj4" fmla="val 66673"/>
            </a:avLst>
          </a:prstGeom>
          <a:solidFill>
            <a:srgbClr val="ff00ff">
              <a:alpha val="6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5-27T16:45:42Z</dcterms:modified>
  <cp:revision>1</cp:revision>
  <dc:subject/>
  <dc:title>Destinee`s Story Starter       Cinderella should get her fairy godmother to wish her a new carriage.Cinderella should just walk depending on  how far the palace is from where Cinderella is.</dc:title>
</cp:coreProperties>
</file>