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2807-4408-41E5-B322-98FB5093E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My Book Is The Gift Of The Crocod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A4B-33FE-49C7-9EF6-A32484E5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870-593B-41C8-AFB2-6C28C001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B94-098D-4157-82C9-54804C56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881-0175-4602-87C1-5A0AA9BD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34FC-E5DA-4B8A-87AE-8CBA7DB3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1E54-5C4D-4B25-A9D9-D257C1E1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FEC3-9357-49D5-8180-5A612D6B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3B96-C107-424A-B74C-2AD313C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1CB4-F7BD-4FD2-AB5A-4ADB9A40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5185-0682-4FC8-9498-DCE700FC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ABE5-A59F-41F1-87A1-E7935271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FCE-D1C6-41E1-AF3B-70D57F8D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D05B-39DC-4E71-BE3B-B0031A1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7A4B-F2EB-4BB7-B7CA-F4EA9E61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EE46-2385-4560-9F4E-C590A2F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B220-5647-4939-A6D9-B9253FDA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DD56-52AD-46A1-8C61-48DDABA8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EA5-1106-41DC-B111-51E5F50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4E3-0692-49AC-AF51-75B4AACB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97F-6D0C-4DDC-BE40-6B436E37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ACF-4FC8-4E39-BC0D-DFFB4A8D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986-A2CB-4DB5-828D-257E1B71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5ED-2050-4E20-9CD0-8DAAC4F0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6D2-2E6F-429E-B79A-A95AF18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34E9-FE10-46BC-8198-D9B4FC152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DA94-ECFF-4BCF-925D-734D162FB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Destinee`s Story Starter</a:t>
            </a: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   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inderella should get her fairy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godmother to wish her a new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arriage.Cinderella should just walk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depending on </a:t>
            </a:r>
            <a:br>
              <a:rPr sz="4400"/>
            </a:b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how far the palace is from where Cinderella i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791320" y="69840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38880" y="304920"/>
            <a:ext cx="962280" cy="91440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280"/>
            <a:ext cx="761760" cy="129564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019920"/>
            <a:ext cx="1644480" cy="609480"/>
          </a:xfrm>
          <a:prstGeom prst="leftArrowCallout">
            <a:avLst>
              <a:gd name="adj1" fmla="val 25002"/>
              <a:gd name="adj2" fmla="val 25000"/>
              <a:gd name="adj3" fmla="val 44969"/>
              <a:gd name="adj4" fmla="val 66673"/>
            </a:avLst>
          </a:prstGeom>
          <a:solidFill>
            <a:srgbClr val="ff00ff">
              <a:alpha val="6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45:42Z</dcterms:modified>
  <cp:revision>1</cp:revision>
  <dc:subject/>
  <dc:title>Destinee`s Story Starter       Cinderella should get her fairy godmother to wish her a new carriage.Cinderella should just walk depending on  how far the palace is from where Cinderella is.</dc:title>
</cp:coreProperties>
</file>