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1749-C7FE-4457-AF5D-7E28F0EED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My Book Is The Gift Of The Crocod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B77-CBE9-438C-A00C-A99642F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E03-5D04-4614-A5F3-A295064C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D08-6B09-453A-81D6-E0C018B3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9F-47CD-4552-B0F8-331784A5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8C2E-8FB9-48BE-BAB0-FF5B76C4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CBC-3BFD-43E3-A787-6E254D2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C115-DF5E-4E45-ADCC-03E3B866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DCEC-9E90-4BFF-99C3-7747EC45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BF55-2905-4B30-9954-D750E32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468-C785-4B6B-819B-F7562C63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A3E5-7E0F-4CA4-913D-C288D25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4EA-EA11-45EC-B052-24660D60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34F3-2885-4A0C-9DE0-A78896C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9AB2-55F0-43FD-ACE8-6BACA2B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5CA-E32B-4354-99EA-670A4EF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F55-4C68-4F99-8FEE-CC7EDE71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B57-82A5-4B73-86FC-F9C4E1AF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68C-2D3E-4058-AB1D-75F5F761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F40-5CC7-4E81-912C-882F09E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3FB-1241-4C3C-B8DC-C1E880D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B1C-24C7-4423-BF9A-63380337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327-A588-46F5-985E-60FC46D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9E4-44FD-42FC-B4F0-425C8FE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692-81F6-46ED-9765-7C6CF13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51A7-3917-4A4B-8DAB-7B54840AE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9AC2-7399-46D7-B0DE-B1955C2B1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Destinee`s Story Starter</a:t>
            </a: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Brush Script MT"/>
              </a:rPr>
              <a:t>   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inderella should get her fairy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godmother to wish her a new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carriage.Cinderella should just walk</a:t>
            </a:r>
            <a:r>
              <a:rPr b="0" lang="en-US" sz="4400" spc="-1" strike="noStrike">
                <a:solidFill>
                  <a:srgbClr val="ff36c9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depending on </a:t>
            </a:r>
            <a:br>
              <a:rPr sz="4400"/>
            </a:br>
            <a:r>
              <a:rPr b="0" lang="en-US" sz="4400" spc="-1" strike="noStrike">
                <a:solidFill>
                  <a:srgbClr val="ff36c9"/>
                </a:solidFill>
                <a:latin typeface="Blackmoor LET"/>
              </a:rPr>
              <a:t>how far the palace is from where Cinderella i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791320" y="69840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304920"/>
            <a:ext cx="962280" cy="91440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280"/>
            <a:ext cx="761760" cy="1295640"/>
          </a:xfrm>
          <a:prstGeom prst="star5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019920"/>
            <a:ext cx="1644480" cy="609480"/>
          </a:xfrm>
          <a:prstGeom prst="leftArrowCallout">
            <a:avLst>
              <a:gd name="adj1" fmla="val 25002"/>
              <a:gd name="adj2" fmla="val 25000"/>
              <a:gd name="adj3" fmla="val 44969"/>
              <a:gd name="adj4" fmla="val 66673"/>
            </a:avLst>
          </a:prstGeom>
          <a:solidFill>
            <a:srgbClr val="ff00ff">
              <a:alpha val="6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ts Mits</cp:lastModifiedBy>
  <dcterms:modified xsi:type="dcterms:W3CDTF">2009-05-27T16:45:42Z</dcterms:modified>
  <cp:revision>1</cp:revision>
  <dc:subject/>
  <dc:title>Destinee`s Story Starter       Cinderella should get her fairy godmother to wish her a new carriage.Cinderella should just walk depending on  how far the palace is from where Cinderella is.</dc:title>
</cp:coreProperties>
</file>