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1FAB-9A25-4FA6-9CF1-4152F9A43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My Book Is The Gift Of The Crocod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5FAD-B9DF-4F59-863E-89B32475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7EC-6E85-4B22-B1B3-DD23CA92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F8A2-BB94-4577-BFE8-65CA2B73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D765-573E-4E1A-8583-6D8184C1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6374-47A4-41C7-90A6-24DF0C1C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9C5A-D780-42CD-83FA-1E041AEC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BD11-DA19-444A-B80C-778795BA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9863-E81F-4B85-8FFD-9B252B16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9D53-B9E9-4ABF-B68A-6C44BE0D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9967-FB0B-4A57-A172-CEBF3549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72C5-B153-469C-9AC0-71CCFBA7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C3A0-B53A-4D84-908E-CF6BA857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DD83-D002-43F6-A169-28922092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E5E5-A90A-45DB-A8C7-AA56EC93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2FFA-3CE7-4834-8521-7AE0BAE6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5690-3087-4E55-AF25-028C9475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08DD-7EC2-4252-9DA6-0BE1ADE2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3E1-EF3F-4BBE-9DB0-50BB98C1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09E7-0C5C-4866-9C56-1D7E0413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9BE-94FB-499F-91B7-1AE73B91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A5C-A7AD-4529-8863-36FAD1B8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54C8-15CF-4B80-B06F-211CA1F3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2C0-65FE-49C6-901A-1A923E4A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5AA-3F09-45C4-83BE-31F45BE2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5407-2167-4F5A-B9C2-601419BD75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FB56-5A73-4136-9D5C-FA7D818FB4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Destinee`s Story Starter</a:t>
            </a:r>
            <a:r>
              <a:rPr b="0" lang="en-US" sz="4400" spc="-1" strike="noStrike">
                <a:solidFill>
                  <a:srgbClr val="ffcc66"/>
                </a:solidFill>
                <a:latin typeface="Brush Script MT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Brush Script MT"/>
              </a:rPr>
              <a:t>   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Cinderella should get her fairy</a:t>
            </a: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godmother to wish her a new</a:t>
            </a: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carriage.Cinderella should just walk</a:t>
            </a: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depending on </a:t>
            </a:r>
            <a:br>
              <a:rPr sz="4400"/>
            </a:b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how far the palace is from where Cinderella is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791320" y="69840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742240" y="6456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238880" y="304920"/>
            <a:ext cx="962280" cy="914400"/>
          </a:xfrm>
          <a:prstGeom prst="star5">
            <a:avLst/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52280"/>
            <a:ext cx="761760" cy="1295640"/>
          </a:xfrm>
          <a:prstGeom prst="star5">
            <a:avLst/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6019920"/>
            <a:ext cx="1644480" cy="609480"/>
          </a:xfrm>
          <a:prstGeom prst="leftArrowCallout">
            <a:avLst>
              <a:gd name="adj1" fmla="val 25002"/>
              <a:gd name="adj2" fmla="val 25000"/>
              <a:gd name="adj3" fmla="val 44969"/>
              <a:gd name="adj4" fmla="val 66673"/>
            </a:avLst>
          </a:prstGeom>
          <a:solidFill>
            <a:srgbClr val="ff00ff">
              <a:alpha val="6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ts Mits</cp:lastModifiedBy>
  <dcterms:modified xsi:type="dcterms:W3CDTF">2009-05-27T16:45:42Z</dcterms:modified>
  <cp:revision>1</cp:revision>
  <dc:subject/>
  <dc:title>Destinee`s Story Starter       Cinderella should get her fairy godmother to wish her a new carriage.Cinderella should just walk depending on  how far the palace is from where Cinderella is.</dc:title>
</cp:coreProperties>
</file>