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98DB-71EB-4E6A-B282-CCC04EF5A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AA9F-A01C-4EFB-90CC-3E505C462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BA1F-5198-49BF-85E3-61A5F6A66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19B9-BE35-4C1C-B4BE-4D3C7B4EE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BC9B-9C0A-4294-8765-869318C2E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CD68-7B47-427D-815E-72E3633C2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4B4D-D802-4F79-B188-04CFEF092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E5A2-73D0-4FB1-BD8E-1601F85AD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CD86-AB08-4F35-B155-DFC3170A7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FDE9-C13A-4F39-8FD8-E1AFB86AA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69B3-30E7-493A-A4B6-28D11CB4B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84E9-0083-4691-B59E-8E90A1D95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6CCF6-050F-4618-83F1-1300E323FD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7056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6270840"/>
            <a:ext cx="64008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133720" y="2666880"/>
            <a:ext cx="4647960" cy="3429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95770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240">
                  <a:solidFill>
                    <a:srgbClr val="ff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INDERELLA AROUND THE WORLD</a:t>
            </a:r>
            <a:endParaRPr b="0" lang="en-US" sz="2400" spc="1" strike="noStrike">
              <a:ln w="3240">
                <a:solidFill>
                  <a:srgbClr val="ff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3T21:20:49Z</dcterms:created>
  <dc:creator>moorel</dc:creator>
  <dc:description/>
  <dc:language>en-US</dc:language>
  <cp:lastModifiedBy>moorel</cp:lastModifiedBy>
  <dcterms:modified xsi:type="dcterms:W3CDTF">2009-04-03T21:49:40Z</dcterms:modified>
  <cp:revision>2</cp:revision>
  <dc:subject/>
  <dc:title>C</dc:title>
</cp:coreProperties>
</file>