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051-51C4-44B3-872D-F037FC45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74C-0BA0-4A64-B4EC-7BF1C6B9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775-662B-4186-96B0-C5FAA98B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CAB-E8B6-4BB1-9767-68C6F1D1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690-867F-454E-8EC0-E0C43D27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B91-6213-4007-A149-D59C35E3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2D5-3B88-48D6-A52D-115508EB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D1A-1AEB-4A49-A502-FB707BFE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C34-1D84-4879-ABCE-8B7DE4DF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801-C2F5-4478-B57A-C9AFEF2D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973-C237-441A-8F8C-FCEAAB70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71F-F9D6-4659-AF64-5DB41E4F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28C6-569D-4DA5-95FA-338D60E99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05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27084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3720" y="2666880"/>
            <a:ext cx="4647960" cy="342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577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INDERELLA AROUND THE WORLD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21:20:49Z</dcterms:created>
  <dc:creator>moorel</dc:creator>
  <dc:description/>
  <dc:language>en-US</dc:language>
  <cp:lastModifiedBy>moorel</cp:lastModifiedBy>
  <dcterms:modified xsi:type="dcterms:W3CDTF">2009-04-03T21:49:40Z</dcterms:modified>
  <cp:revision>2</cp:revision>
  <dc:subject/>
  <dc:title>C</dc:title>
</cp:coreProperties>
</file>