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437-0613-4854-B0B2-4A253B6A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3D9-BBD2-44B5-B66E-130C0609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2FD-8A76-46C3-ABA6-1392D0C2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47C9-628C-483A-A3E8-3531A7F5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3A9A-9076-4BD3-98AC-2CAF7998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C379-D600-487C-9184-E1346224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817-35A5-42CB-B70A-88B8F6B7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B77-41F2-44A4-B9B8-DEAA4CCD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F8A-B18C-45E4-9AE3-FF8C1384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59A7-2A13-4188-9F04-ABBEEC92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7D3-F491-4A96-8000-D63E28BE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E9C-6A0A-4292-A28D-C820E433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CAD5-E02B-47EB-A9C2-80CEFB0A1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05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627084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3720" y="2666880"/>
            <a:ext cx="4647960" cy="3429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577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INDERELLA AROUND THE WORLD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21:20:49Z</dcterms:created>
  <dc:creator>moorel</dc:creator>
  <dc:description/>
  <dc:language>en-US</dc:language>
  <cp:lastModifiedBy>moorel</cp:lastModifiedBy>
  <dcterms:modified xsi:type="dcterms:W3CDTF">2009-04-03T21:49:40Z</dcterms:modified>
  <cp:revision>2</cp:revision>
  <dc:subject/>
  <dc:title>C</dc:title>
</cp:coreProperties>
</file>