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8851-1BE7-4C36-A059-4B8AC94D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8FAC-EF49-4F46-A6D1-05AEE813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44D7-8183-4D0D-ABF5-BC0DBACFB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0A14-9496-48B7-9742-7BDE4F4C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994A-9102-4B9A-9FE3-E65F5FED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FC61-0103-4852-9074-F88E0A4A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E845-D243-4F56-A002-34068C6E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64AB-0E7F-4833-8B4D-9E93D005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2E49-451B-4277-BCDC-B8DEF453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C592-DC4C-40A5-AD10-7B4733A5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1541-8B39-456E-8726-81FD80FF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65D2-85B7-4EA9-B8D0-19C31A53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031B-C9C5-44FE-96C5-8F792915F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05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627084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33720" y="2666880"/>
            <a:ext cx="4647960" cy="3429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5770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INDERELLA AROUND THE WORLD</a:t>
            </a:r>
            <a:endParaRPr b="0" lang="en-US" sz="2400" spc="1" strike="noStrike">
              <a:ln w="324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21:20:49Z</dcterms:created>
  <dc:creator>moorel</dc:creator>
  <dc:description/>
  <dc:language>en-US</dc:language>
  <cp:lastModifiedBy>moorel</cp:lastModifiedBy>
  <dcterms:modified xsi:type="dcterms:W3CDTF">2009-04-03T21:49:40Z</dcterms:modified>
  <cp:revision>2</cp:revision>
  <dc:subject/>
  <dc:title>C</dc:title>
</cp:coreProperties>
</file>