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DB22-CB8E-486D-B2BF-42A78A169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BF3E-18E7-4817-A72F-6AF5D68E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6773-9639-46B1-8B58-ED99CF072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504F-43F0-406E-A168-47E802C4B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192F-8E3A-4444-90C5-8456E837F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3328-C61A-4A80-B490-7DFE2F31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BE29-8033-49C4-A4C5-6D41808C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3572-0E5B-4FAC-9050-A9200090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C591-B1F2-4994-93FC-C261F0AA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643C-7237-4667-912D-8858B4DF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4C86-0942-4B3C-9A78-168EEB83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B301-E785-4696-8762-A5AD98EE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A414-9E1B-42FF-B5D2-7C57779A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87996-3F41-4505-8B4C-1C97FEE8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E993-C493-4D30-A784-6BB2A10D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1F6A-4904-4BF5-9453-D088F119E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122F-0122-4CBF-8F8D-39B1D52F1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FB5C-2731-4BBB-A39E-2FB46DC8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BBA4-591F-40E3-B4D9-1015C151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0B97-1C1A-4CE3-8C01-9D8A8EE5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B219-F193-4560-9B80-AF47CD73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8F40-282D-4DA4-B2B8-9B50B822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0011-F33A-4E83-A289-373160DE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3C51-3167-4514-B402-855214A3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7F2B-4ABF-474E-8D87-69EE5FCDA0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9FAC-E3EC-46A9-A2AA-2543B7F33A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43a1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742240" y="645624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742240" y="645624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09480" y="281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066680" y="152280"/>
          <a:ext cx="5029200" cy="1371600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          </a:t>
                      </a:r>
                      <a:r>
                        <a:rPr b="0" lang="en-US" sz="2400" spc="-1" strike="noStrike">
                          <a:solidFill>
                            <a:srgbClr val="fe0514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for her cha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e0514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for her inner beau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0514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for her nicen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0514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for her dres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0514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for her eleg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0514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for her radi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0514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for 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0514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for her lovely n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0514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for her laugh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0514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for here awesome pri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ts Mits</cp:lastModifiedBy>
  <dcterms:modified xsi:type="dcterms:W3CDTF">2009-06-03T18:46:46Z</dcterms:modified>
  <cp:revision>1</cp:revision>
  <dc:subject/>
  <dc:title>PowerPoint Presentation</dc:title>
</cp:coreProperties>
</file>