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966-FD7C-410D-91BF-F1C933C4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92D-B282-4B3B-83F5-0BCB17B4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E1D-1A3A-40D4-B72B-72905FD3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351-B26D-4485-A6AC-C21F507E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427E-987D-44B1-86B8-CB93E8D6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7083-3058-4F99-B8BE-8CFD5640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F933-3C58-469A-A1FD-6BEC28D8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CEF9-FDEE-4E9B-998E-40DB8886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BA9B-74BE-4FE5-9A3D-474D9D15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B973-FC0F-4911-B601-AFBCDE06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5205-62B7-4EEE-98CC-6943B909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C5A-3393-4748-925F-335BA589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8314-2092-4C11-9F20-2F7EBCB5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1089-0424-40EF-8E55-E333D298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34A2-8579-45D5-8EBF-3A156A88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5A76-F8D4-4021-A125-DD2CD310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2C4A-C487-4972-876A-8A2CD381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BE4-D283-40DA-84F8-7BFF0EA8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759-DFEB-4313-BA5F-89104D7A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46A-81C0-432A-9091-29842B6F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653-DD0D-4231-84BC-6A8E38CB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694-8E90-4E07-8761-13B3ED6A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821-C379-4537-9B16-F3E72CDE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B44-CC3D-40DF-B6D0-C5D2DEE6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F6A4-F2A0-4CE6-BEDD-80ECF43C7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896D-5381-4508-826B-C659CCAAE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43a1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281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66680" y="152280"/>
          <a:ext cx="5029200" cy="1371600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</a:t>
                      </a: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cha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inner beau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nice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dres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eleg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rad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lovely 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laugh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e awesome pr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ts Mits</cp:lastModifiedBy>
  <dcterms:modified xsi:type="dcterms:W3CDTF">2009-06-03T18:46:46Z</dcterms:modified>
  <cp:revision>1</cp:revision>
  <dc:subject/>
  <dc:title>PowerPoint Presentation</dc:title>
</cp:coreProperties>
</file>