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2C8-F434-4BD1-AF3A-1EEF1E07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7EC-243A-4BF6-BF27-B3322E00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643-0FD7-4DC5-873F-5D4CC29E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C02-5D06-4706-B583-9F7697C7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6AB-A49C-46FB-BDF7-9BE3CDE6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792-942B-4D4C-A786-9C5F3F4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04AA-32FB-4076-B04B-E69AF0B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098A-A4E0-4698-AB96-8803CCD0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E7CA-D94C-4547-8A7C-0792C84A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56BE-239F-4F6B-810A-27815A7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AC06-123F-4CFF-A02D-DFF3C9A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2DD-9A36-4D85-98FE-A8B9C8F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7416-D9FD-48FD-BA5C-6D9A899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F1D-647F-4976-BF3E-BE647EF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7F01-9888-4FF4-8AD2-BDD95185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EB1-0BE8-41AC-8AA6-58CC0F9D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DDD-41B2-451E-91F9-4FD4434B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628-1D33-460A-8A09-FFF3AD6D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26E-6342-4491-A60A-5B54294C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6B5-2638-44F9-B5F6-C0B7EB3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DA2-83D3-42C2-9CC9-2307546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028-2CF7-43C2-9773-A89A2F0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C63-2112-417D-B464-9445413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A32-6C74-4319-B3F8-F9330B1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A8E-BCDB-4DD2-9691-A9AE6222A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62A6-6386-4954-ACC4-8B23EE316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52280"/>
          <a:ext cx="5029200" cy="137160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ch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inner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nic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d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eleg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rad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ovely 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 laugh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0514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for here awesome pr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6-03T18:46:46Z</dcterms:modified>
  <cp:revision>1</cp:revision>
  <dc:subject/>
  <dc:title>PowerPoint Presentation</dc:title>
</cp:coreProperties>
</file>