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652-69FB-4C3C-A1EF-C527A988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39F-56A2-4201-BCB4-760589E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059-EC97-47DE-88E5-1451E7D8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298-B4DA-4FB5-B27B-A748256F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2D7-B008-4661-A1DB-3F3CE2C5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5EF-8DC4-4C3B-9BA6-D6A855A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CA6-5E6E-49E3-B9A0-1077426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B28-875C-499F-A644-EB10F11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BE0-9645-4EF1-8EF2-368F35A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FBD-AA1E-4EE2-AD9F-CB16BEC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272E-F10E-4EF7-AF69-BA41A47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A1F-D6F9-4DE3-8A70-7C2EF12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99A-04ED-44ED-8CC4-C1271EF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9E5-B946-4C6E-81F5-9A650660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F08-B7D5-49FA-83FD-E187207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7B5-29A2-4045-8928-5639B305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188A-2099-4C12-8F84-83F3B9C0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86F-197B-458D-8C38-615F876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258-9876-423E-97A3-ABF5BF21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BEF-5DBD-4196-8D14-FD14C4D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865-1817-492C-B896-1CF99678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311-396B-4554-8B0C-2361950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634-F415-4E52-B3B4-FE6E724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BEC-2DBC-4629-A104-A9C53FA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56EB-1ED9-4E15-98EA-8CA4DBF95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8C3-9013-42D9-AA99-CBA80AE16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52280"/>
          <a:ext cx="5029200" cy="137160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ch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inner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nic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d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eleg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rad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ovely 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augh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e awesome pr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6-03T18:46:46Z</dcterms:modified>
  <cp:revision>1</cp:revision>
  <dc:subject/>
  <dc:title>PowerPoint Presentation</dc:title>
</cp:coreProperties>
</file>