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EF3-B2B5-4300-B6EB-757721AA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09F-1D54-4109-B345-410C124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E20-11A4-4EA5-AED7-4A3D698A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3E-9F65-4382-A0C1-12EAAE0C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260-FFD0-46B8-A864-7A4339C0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DDA1-AA16-40CA-803A-BC60084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76E6-1D10-486B-94D9-D8CCA193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A9F0-01B9-47EC-817E-38C13306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0863-D9CA-4C0F-83C5-C30E720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C4D4-054D-4ED3-B8B3-5C1F6C9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A2FE-C5D9-4DFB-BB82-A3B604F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431-D065-49A4-ABA8-68075E4C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875-7CE7-478E-91B8-0E3092D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4688-0FAA-4A51-AC78-D15836B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1B7B-810F-4875-A15F-228FD2CF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034-F802-40CA-B0E4-9533DEA6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8307-C722-49B4-8774-B0526E8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11E-0CFB-4B31-A870-BB0620E9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117-2624-4F35-9FA8-7BAFD77C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FB0-0858-4314-8535-F8FFFB1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2E2-18C2-44CF-B19B-5DE4DF95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B1B-31D6-4468-AEB2-1A9193B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1C3-4B14-40BC-8ACB-7B16E20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54F-288C-458A-9471-CEE5FB5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CFA3-ABC0-408A-A884-B28C00237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824-6F66-4586-95BA-C592C67E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914400"/>
          <a:ext cx="2286000" cy="170686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81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Cha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Na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Dasm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Ea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Lo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43640" y="304920"/>
            <a:ext cx="607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Blackmoor LET"/>
              </a:rPr>
              <a:t>Brittney’s Acrostic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0880"/>
            <a:ext cx="41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28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990720"/>
          <a:ext cx="1523880" cy="13716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162920" y="52578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61722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00800" y="3733920"/>
          <a:ext cx="2286000" cy="9442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 LOVE CAS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38280" y="4724280"/>
          <a:ext cx="2286000" cy="11430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MY ACRO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43200" y="914400"/>
          <a:ext cx="3581280" cy="1172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Edwardian Script ITC"/>
                        </a:rPr>
                        <a:t>I    LOVE  ME AND  M  Y   F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627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55:01Z</dcterms:modified>
  <cp:revision>2</cp:revision>
  <dc:subject/>
  <dc:title>PowerPoint Presentation</dc:title>
</cp:coreProperties>
</file>