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4C9-4632-4EA0-B688-AE032CAE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5D9-21F0-4EF2-9DEC-E573E1A0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DDE-C12A-4F67-8073-5E7DDC41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FB9-5BED-47C2-9AC3-8C15D1A6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F74D-6907-416B-863E-08AA434A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9C7A-3F5D-4489-9197-D6894C29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E7B1-91E8-46A0-80D9-3E644ACA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50C0-C93B-4CF8-A279-D9FF8D08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F587-4A7A-48B0-B3AF-2AF8D891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C0F0-63F1-4CCC-A8AB-78B21E83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899A-8766-4AAD-B1E7-166911A2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50A-5BC8-47CC-A40C-DDFF8A2A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06E1-F866-4B88-819D-F85E23C1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5F75-3706-4282-A9A9-8807681E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13F4-D696-4BDB-88BE-64438290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52A2-B707-4D4B-B1CD-B3B1F4E7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BA89-D28B-43BD-BEAA-7EE692E6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103-97CF-4114-A992-100568F9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84E-24DF-40D2-A601-F8201097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C66-756A-495C-82E0-EBEC3C02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349-DDDA-4FF7-BD21-E6566BB5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C538-C479-4408-8CFA-1F28D5BB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975-F645-400C-B4C2-A6453A2E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79D-E029-4A1D-B606-7DDD79D5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BC4B-46C3-46C7-BCDB-CBD56E08F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559D-9D8B-4F5D-8623-5A3550B59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914400"/>
          <a:ext cx="2286000" cy="170686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81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cc"/>
                          </a:solidFill>
                          <a:latin typeface="Blackmoor LET"/>
                        </a:rPr>
                        <a:t>Char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In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800080"/>
                          </a:solidFill>
                          <a:latin typeface="Blackmoor LET"/>
                        </a:rPr>
                        <a:t>Nat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cc"/>
                          </a:solidFill>
                          <a:latin typeface="Blackmoor LET"/>
                        </a:rPr>
                        <a:t>Dasm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Ea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800080"/>
                          </a:solidFill>
                          <a:latin typeface="Blackmoor LET"/>
                        </a:rPr>
                        <a:t>Respons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cc"/>
                          </a:solidFill>
                          <a:latin typeface="Blackmoor LET"/>
                        </a:rPr>
                        <a:t>Energe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Lo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800080"/>
                          </a:solidFill>
                          <a:latin typeface="Blackmoor LET"/>
                        </a:rPr>
                        <a:t>Laun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cc"/>
                          </a:solidFill>
                          <a:latin typeface="Blackmoor LET"/>
                        </a:rPr>
                        <a:t>Amaz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43640" y="304920"/>
            <a:ext cx="607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80"/>
                </a:solidFill>
                <a:latin typeface="Blackmoor LET"/>
              </a:rPr>
              <a:t>Brittney’s Acrostic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80880"/>
            <a:ext cx="41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286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28600"/>
            <a:ext cx="5334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400800" y="990720"/>
          <a:ext cx="1523880" cy="13716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I lov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cinder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7162920" y="5257800"/>
            <a:ext cx="961920" cy="91440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6172200"/>
            <a:ext cx="961920" cy="91440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400800" y="3733920"/>
          <a:ext cx="2286000" cy="9442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I  LOVE CAST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438280" y="4724280"/>
          <a:ext cx="2286000" cy="114300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I LOVE MY ACRO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743200" y="914400"/>
          <a:ext cx="3581280" cy="11728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Edwardian Script ITC"/>
                        </a:rPr>
                        <a:t>I    LOVE  ME AND  M  Y   FAM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2627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ts Mits</cp:lastModifiedBy>
  <dcterms:modified xsi:type="dcterms:W3CDTF">2009-05-27T16:55:01Z</dcterms:modified>
  <cp:revision>2</cp:revision>
  <dc:subject/>
  <dc:title>PowerPoint Presentation</dc:title>
</cp:coreProperties>
</file>