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AA2-0991-46F3-9DE4-D9879F2B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7D5-885D-4BB2-B74C-DF9BD7F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F7E-641B-452A-BD4B-55908A45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3C2-E107-4D28-B985-8734268C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37B0-43E1-46B5-81D5-57FED04E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F35-6CEA-4E4D-A33D-3BD6FCB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6DCE-A940-4D3A-98FB-C34FF7CC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08D4-FB10-4971-B722-D60D6EB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CA0-40A0-4F67-98FE-2DA33B1B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8740-B98F-4917-B0E9-3A4DCE5B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0C9-C4C3-4B66-BFBB-41A1381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1EE-3105-445A-8635-57FB8650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9B4D-2E07-4592-9DC8-0020F30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206A-AF8E-4790-A758-7DDAFD7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A3BD-BC3C-4289-900E-E5E744A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81E5-CF2C-4C15-8B0C-17772E0C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8230-A250-4B6F-A4D1-1BEF45DB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2DF-B349-44E0-8A21-53374F7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C1-4BA3-4917-BCA3-49409F55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21D-4B49-4CBD-851B-FBC13AB1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EAC-6CAD-472B-85AE-8E92916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8C2-D707-4EE3-89A3-28FD77C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B2F-3DE3-466B-818B-ED29EE4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23E-DE02-474E-8BCC-D611798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761-3C03-421E-8774-98CCE6423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E923-0649-4897-B7E1-779E5FBD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914400"/>
          <a:ext cx="2286000" cy="170686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81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Char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Na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Dasm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Ea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Respon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Lo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43640" y="304920"/>
            <a:ext cx="607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Blackmoor LET"/>
              </a:rPr>
              <a:t>Brittney’s Acrostic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0880"/>
            <a:ext cx="41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28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860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00800" y="990720"/>
          <a:ext cx="1523880" cy="13716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cinder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162920" y="52578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61722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400800" y="3733920"/>
          <a:ext cx="2286000" cy="9442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 LOVE CAS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38280" y="4724280"/>
          <a:ext cx="2286000" cy="11430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MY ACRO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43200" y="914400"/>
          <a:ext cx="3581280" cy="1172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Edwardian Script ITC"/>
                        </a:rPr>
                        <a:t>I    LOVE  ME AND  M  Y   FA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627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55:01Z</dcterms:modified>
  <cp:revision>2</cp:revision>
  <dc:subject/>
  <dc:title>PowerPoint Presentation</dc:title>
</cp:coreProperties>
</file>