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455-713C-45E9-9505-5652365B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B89-74CD-45E5-89C3-838916AC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691-CAE1-4CC3-90F7-393006CA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14B-2389-4162-8E4D-D2182E41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E4D2-D496-4265-8A11-91535776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E69-87AB-4905-AD0E-2FC95A6E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D695-6992-417B-8EAB-28C0D69B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D21C-8201-4F3D-8C5B-2DA05CA7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5EB-BC8F-42A1-96C8-1F55FEB9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E15-D450-4BF1-80A5-B8108BCF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D17F-0022-4520-B7D0-C63112C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3D4-D394-4AEE-9BCE-FD7FD24C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C5F-FBF1-4963-AC69-FADA7B78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D85-0A04-4970-B19A-766E0D5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B39-6C6E-49FA-BAFB-4534E92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1DED-E8BC-4B25-A8DC-BC0E9170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8D39-6ABE-4934-BB22-5B56A0A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41C-C597-4CC8-85F5-C0DD5D3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0F9-1FCC-4E5E-BDF7-7720185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F6D-300A-4C27-9D41-475051D6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A49-4089-4A0C-B45F-01C86FE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618-CA2A-4F4D-AB6C-A0EBD3E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6D8-5354-4E83-AABD-F99A8CB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03D-9FD5-416A-8205-893FD62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0E6-8116-4D14-AD18-A2074C31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2BAF-F320-4230-A5CD-6FCBA349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914400"/>
          <a:ext cx="2286000" cy="170686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81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Cha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Na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Dasm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Ea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Lo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00080"/>
                          </a:solidFill>
                          <a:latin typeface="Blackmoor LET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cc"/>
                          </a:solidFill>
                          <a:latin typeface="Blackmoor LET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43640" y="304920"/>
            <a:ext cx="607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80"/>
                </a:solidFill>
                <a:latin typeface="Blackmoor LET"/>
              </a:rPr>
              <a:t>Brittney’s Acrostic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0880"/>
            <a:ext cx="41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28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990720"/>
          <a:ext cx="1523880" cy="13716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162920" y="52578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6172200"/>
            <a:ext cx="961920" cy="9144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400800" y="3733920"/>
          <a:ext cx="2286000" cy="9442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 LOVE CAS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38280" y="4724280"/>
          <a:ext cx="2286000" cy="11430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lackmoor LET"/>
                        </a:rPr>
                        <a:t>I LOVE MY ACRO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43200" y="914400"/>
          <a:ext cx="3581280" cy="1172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Edwardian Script ITC"/>
                        </a:rPr>
                        <a:t>I    LOVE  ME AND  M  Y   FA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627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55:01Z</dcterms:modified>
  <cp:revision>2</cp:revision>
  <dc:subject/>
  <dc:title>PowerPoint Presentation</dc:title>
</cp:coreProperties>
</file>