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718-030B-4365-B0FE-964B7882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9B1-7180-491E-8567-85B55F23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447-9961-412C-B934-AA4C465E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727-A221-45A5-9359-7A574E0C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250-F2B0-4D8D-B7D5-F7A96605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C8CD-6C8B-44F6-9591-AD33A07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044-CD73-4CAA-9C8B-2EF2BA48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0BC6-A24A-4D87-9585-5194059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871B-7815-41F0-848F-B01EE55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AF2C-B0E1-4721-A7C6-B53E1D3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78E-771A-4A38-87DF-47DA5B3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BB7-B22C-4D82-9466-03FB1FAA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EED1-5D97-4CC8-82ED-391ADF0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2829-F99C-411E-8433-3FE34BC3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6E8-C4F2-445E-BD57-236ABCFA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2EBB-9D5E-486A-8627-8DFF97EE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5F25-0C22-4BBE-879B-2AA9E57D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59C-B0CA-439B-A566-E93B8157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800-F1FF-41AC-8DDE-79F19D4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32E-25FF-44BF-A09A-1FF2C0F0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82F-AD94-482F-98AD-7433AA2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9E3-55B9-4833-8679-2554C07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709-16A5-41CD-905F-29E6911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DC5-E314-413E-8056-D866E57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1BD-2C77-4674-9C22-531E743126B3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9F6-8F30-4996-B3CF-10B9CFC3AAA4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76320"/>
          <a:ext cx="609480" cy="6781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ヒラギノ角ゴ Pro W3"/>
                          <a:ea typeface="ＭＳ Ｐゴシック"/>
                        </a:rPr>
                        <a:t>_x0010_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           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85800" y="76320"/>
          <a:ext cx="2514600" cy="68245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er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ncred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ms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cou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3429000" y="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76720" y="76320"/>
          <a:ext cx="5181480" cy="60948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  <a:ea typeface="ヒラギノ角ゴ Pro W3"/>
                        </a:rPr>
                        <a:t>Acrostic poem by Jad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71840" y="2182680"/>
            <a:ext cx="5443560" cy="406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orel</cp:lastModifiedBy>
  <dcterms:modified xsi:type="dcterms:W3CDTF">2009-06-03T19:36:38Z</dcterms:modified>
  <cp:revision>4</cp:revision>
  <dc:subject/>
  <dc:title>PowerPoint Presentation</dc:title>
</cp:coreProperties>
</file>