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5B05-4005-466F-8077-7884E135A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64008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74040"/>
            <a:ext cx="64008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A98D-F6AE-4528-91CF-9E0BBE94B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7404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7404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A1F7-46FA-4834-BEF5-C627FD934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20606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4038120"/>
            <a:ext cx="20606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4038120"/>
            <a:ext cx="20606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74040"/>
            <a:ext cx="20606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74040"/>
            <a:ext cx="20606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74040"/>
            <a:ext cx="20606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6B42-4C6E-4232-B6B4-43E9DF6BD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F4E21-8F45-4462-9684-B228554B6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16CC0-D990-4B16-A69C-66ECAD602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0A366-9A39-420A-9FDE-F1647BD62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D3E7D-AD3B-4960-A8A4-8FD5CC07A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1E445-D724-4899-84C0-E84CF6557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635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56145-C586-4070-A1C7-E12CC3733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7404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E82DA-EADD-4954-80A5-91392CD7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B91A-A3EC-4A24-8A37-BCCFC4C72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7404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673A2-BCAA-491C-AEAB-F48A7484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74040"/>
            <a:ext cx="64008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FC277-2F67-49CA-8F21-CB62C23E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64008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74040"/>
            <a:ext cx="64008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50518-16DC-4D3B-A7D9-E67E2DEBE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7404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7404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47849-4C97-43D5-84F9-ED3CE34C1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20606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4038120"/>
            <a:ext cx="20606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4038120"/>
            <a:ext cx="20606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74040"/>
            <a:ext cx="20606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74040"/>
            <a:ext cx="20606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74040"/>
            <a:ext cx="20606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72680-2CAA-4CF7-BEA3-C8AADA8D2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0DBA-AB1E-46EC-B1F8-05E783B62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96FA-51C2-49DE-938B-E758C6A89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BA71-85C6-4FEF-B784-7D0E8ED48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635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D5DA-8660-42D2-9FCE-9355EAA30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7404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7C39-F29A-4E03-80F9-EA29E246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7404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915E-C97C-4856-8FDD-F2F88877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74040"/>
            <a:ext cx="64008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32F6-CB5A-4C69-A7BD-72B90BF4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080FF-61ED-40C6-A9A2-D4B3C2062D69}" type="slidenum"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D9162-9437-4BC6-A532-2A94AA86D7C1}" type="slidenum"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4920" y="53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0" y="76320"/>
          <a:ext cx="609480" cy="6781680"/>
        </p:xfrm>
        <a:graphic>
          <a:graphicData uri="http://schemas.openxmlformats.org/drawingml/2006/table">
            <a:tbl>
              <a:tblPr/>
              <a:tblGrid>
                <a:gridCol w="609480"/>
              </a:tblGrid>
              <a:tr h="43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D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R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E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L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ヒラギノ角ゴ Pro W3"/>
                          <a:ea typeface="ＭＳ Ｐゴシック"/>
                        </a:rPr>
                        <a:t>_x0010_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L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A                                        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685800" y="76320"/>
          <a:ext cx="2514600" cy="682452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eerfu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ncredi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Ni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Damse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Energeti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Respec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Encourag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Lo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Laundres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amaz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3429000" y="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43400" y="129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276720" y="76320"/>
          <a:ext cx="5181480" cy="609480"/>
        </p:xfrm>
        <a:graphic>
          <a:graphicData uri="http://schemas.openxmlformats.org/drawingml/2006/table">
            <a:tbl>
              <a:tblPr/>
              <a:tblGrid>
                <a:gridCol w="518148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  <a:ea typeface="ヒラギノ角ゴ Pro W3"/>
                        </a:rPr>
                        <a:t>Acrostic poem by Jada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471840" y="2182680"/>
            <a:ext cx="5443560" cy="4065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8742240" y="645624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orel</cp:lastModifiedBy>
  <dcterms:modified xsi:type="dcterms:W3CDTF">2009-06-03T19:36:38Z</dcterms:modified>
  <cp:revision>4</cp:revision>
  <dc:subject/>
  <dc:title>PowerPoint Presentation</dc:title>
</cp:coreProperties>
</file>