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38D-705A-4675-B9B0-44FF5B60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C4C-ADE3-4CFB-A144-8C581AE6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E21-91E1-4AE3-9AA6-6577E9FF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D28-038B-4EB3-BA0C-CFE43276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46B9-906B-44E7-A697-E19DD552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6DA4-A532-4C79-A8FE-BD562DBA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1523-B300-4B2C-9DD9-D4DD468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4BBD-1CD4-45DF-999A-E8C2116E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7F9E-B524-4F3C-B0B9-91B7B070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7F40-E58C-424F-BC5A-766BEBE5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3D50-8E61-4DF0-BE84-7A7FD527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8AC-AF83-4E22-82EA-56416942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347E-4AC4-42FB-9F32-4D1915A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1DF7-94F2-4B91-9E68-AFBE346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46F-4E84-49A2-953E-0D5CEC87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171D-5FC0-4D0F-B6F4-6381BF93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CD24-F8D6-424D-BA7F-D10AC9C3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4DB-A943-4FEE-A25B-EF2373F1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89E-5507-423E-BC45-5AF04167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150-A469-429D-896F-6C878EC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DC8-DEA9-41AF-9C5C-1EE2DA6F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E36-641A-482E-B2D0-A71F0CF8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DC3-BA33-4816-B5A0-89031453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742-4473-4D79-A7B1-A63569B7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98D-B17C-42FB-80F1-DEC0F3F4E819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E202-8A11-4EB3-A4E8-618E5658B2CA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76320"/>
          <a:ext cx="609480" cy="6781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ヒラギノ角ゴ Pro W3"/>
                          <a:ea typeface="ＭＳ Ｐゴシック"/>
                        </a:rPr>
                        <a:t>_x0010_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             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85800" y="76320"/>
          <a:ext cx="2514600" cy="68245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er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ncred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ms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erge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sp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ncou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und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maz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3429000" y="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76720" y="76320"/>
          <a:ext cx="5181480" cy="60948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  <a:ea typeface="ヒラギノ角ゴ Pro W3"/>
                        </a:rPr>
                        <a:t>Acrostic poem by Jad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71840" y="2182680"/>
            <a:ext cx="5443560" cy="406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742240" y="645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orel</cp:lastModifiedBy>
  <dcterms:modified xsi:type="dcterms:W3CDTF">2009-06-03T19:36:38Z</dcterms:modified>
  <cp:revision>4</cp:revision>
  <dc:subject/>
  <dc:title>PowerPoint Presentation</dc:title>
</cp:coreProperties>
</file>