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316-DD67-4F90-BD81-5DFBC8D9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19B-12B6-44BD-8685-980F5D87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4F6-FDF1-43B7-85A7-DA548065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D5D-19A1-46D2-A057-9644C7D1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0E49-8E2C-49A1-AC90-5227750E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D4DC-A2B8-4E3F-ADC3-A83C859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8C24-1AE4-4781-A58A-FFF752C7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9FA3-8C92-40F3-BC63-A8148C27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2F50-BD67-4E35-89AC-1169B08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823-4982-45F1-B26B-7C291052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7AB6-5C7F-4378-BFFF-419A3F1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DB2-2CB0-409E-A0C7-FD2F715C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D408-449A-4FBA-9114-06DBB15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D8F4-4789-48F9-8321-4E85D98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CE1B-DBA0-4B54-80A9-01DBF9B4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0554-17F8-402C-B39C-89A4C889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401B-9FC6-40CD-B262-8287ECEC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837-BB30-479C-936F-F0DAD52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C93-922D-437F-BB28-1904D66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04F-F970-426A-9DBE-038EC576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07D-E9AB-44F8-9603-495643A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BD8-74E3-4E31-858E-CEA399B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375-69FD-44D0-886A-DEED919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934-C89B-43A8-9C56-1B139A8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3B65-8C27-488D-B916-82E5B3AA6C83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A9AD-E939-41DD-9802-20691E69CDCD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76320"/>
          <a:ext cx="609480" cy="6781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ヒラギノ角ゴ Pro W3"/>
                          <a:ea typeface="ＭＳ Ｐゴシック"/>
                        </a:rPr>
                        <a:t>_x0010_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              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85800" y="76320"/>
          <a:ext cx="2514600" cy="68245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er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ncred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ms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nerge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ncou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und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maz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3429000" y="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76720" y="76320"/>
          <a:ext cx="5181480" cy="60948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  <a:ea typeface="ヒラギノ角ゴ Pro W3"/>
                        </a:rPr>
                        <a:t>Acrostic poem by Jad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71840" y="2182680"/>
            <a:ext cx="5443560" cy="406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orel</cp:lastModifiedBy>
  <dcterms:modified xsi:type="dcterms:W3CDTF">2009-06-03T19:36:38Z</dcterms:modified>
  <cp:revision>4</cp:revision>
  <dc:subject/>
  <dc:title>PowerPoint Presentation</dc:title>
</cp:coreProperties>
</file>