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36E-6322-4C24-B09B-167F7EAA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CFC-4114-48EB-A017-71DA3F14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3EA-623C-4706-AED3-32F19869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C98-6BE8-492B-B1D9-29657422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16D-6931-494F-81E9-6022C610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122-71DF-4EB7-9D10-10CEADBB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C74-5842-4DCC-9A7E-8226ED2D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F1E-3495-48DD-8BC4-CC379332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E52-64D0-4C37-90BC-D07D609D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B1C-A7BD-45C0-9BA9-6BC95C01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BEA-B6B4-41B7-A843-CC81D0D3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58D-CC54-4062-98FD-6BE3AC34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8D2C-D8F9-4283-9F9A-AE4BAC616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Lucida Handwriting"/>
              </a:rPr>
              <a:t>Kat’s power point 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3526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Edwardian Script ITC"/>
              </a:rPr>
              <a:t>On  The Egyptian Cinder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2666880" cy="264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10960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9814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c0e0"/>
                </a:solidFill>
                <a:latin typeface="Jazz LET"/>
              </a:rPr>
              <a:t>The characters in The Egyptian Cinderella were ….</a:t>
            </a:r>
            <a:r>
              <a:rPr b="0" lang="en-US" sz="4400" spc="-1" strike="noStrike">
                <a:solidFill>
                  <a:srgbClr val="52c0e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Rhodopis ,the Cinderella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master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three slaves,(that mistreat Rhodp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masis,the pr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 falcon,that helps Rhod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8160" y="-61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eb12"/>
                </a:solidFill>
                <a:latin typeface="American Typewriter Light"/>
              </a:rPr>
              <a:t>This story was in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799"/>
              </a:spcBef>
              <a:buClr>
                <a:srgbClr val="701416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1416"/>
                </a:solidFill>
                <a:latin typeface="Handwriting - Dakota"/>
              </a:rPr>
              <a:t>Egypt,the place with pyramids</a:t>
            </a:r>
            <a:r>
              <a:rPr b="0" lang="en-US" sz="3200" spc="-1" strike="noStrike">
                <a:solidFill>
                  <a:srgbClr val="701416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5ed6"/>
                </a:solidFill>
                <a:latin typeface="Herculanum"/>
              </a:rPr>
              <a:t>The problem was that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22a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22a6"/>
                </a:solidFill>
                <a:latin typeface="Bradley Hand ITC TT-Bold"/>
              </a:rPr>
              <a:t>Rhodopis couldn’t go to the ball/par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6200" y="4238640"/>
            <a:ext cx="3505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Matura MT Script Capitals"/>
              </a:rPr>
              <a:t>The events were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Rhodopis was caught by pirates and became a s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was mistreated by other sla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got red shoes, because she danced so nice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At the ball a falcon dropped a red shoe by the pri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The prince went looking for the owner of the sh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217d"/>
                </a:solidFill>
                <a:latin typeface="Braggadocio"/>
              </a:rPr>
              <a:t>The ending w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65061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5061"/>
                </a:solidFill>
                <a:latin typeface="Curlz MT"/>
              </a:rPr>
              <a:t>Rhodopis and the prince got marr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51040" y="2514600"/>
            <a:ext cx="265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6:37:07Z</dcterms:created>
  <dc:creator>Mits Mits</dc:creator>
  <dc:description/>
  <dc:language>en-US</dc:language>
  <cp:lastModifiedBy>moorel</cp:lastModifiedBy>
  <dcterms:modified xsi:type="dcterms:W3CDTF">2009-06-03T19:32:48Z</dcterms:modified>
  <cp:revision>1</cp:revision>
  <dc:subject/>
  <dc:title>Kat’s power point ….</dc:title>
</cp:coreProperties>
</file>