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582-F1B0-4D11-9467-9848D631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696-B057-4ED2-BE48-B79DD4A7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BC4-7DF1-423E-BC9D-F984B16E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AA6-FD95-49AC-9D21-D51AB764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C9D-7622-4869-B468-89729562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0D2-50D6-41B0-AB55-563E5055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605-4E63-4450-A6DF-A0FB7298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03B-F9CD-4DE7-A6FD-D2C70C41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4AA-109A-44B1-A2FB-5E81334A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BF9-2C1E-476B-A9C0-A54AB506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F8B-9961-4D76-A951-8742958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1F0-4D01-4D2B-A398-BA655582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6357-11BE-46D5-BCE7-E0ADF85CE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Lucida Handwriting"/>
              </a:rPr>
              <a:t>Kat’s power point 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352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Edwardian Script ITC"/>
              </a:rPr>
              <a:t>On  The Egyptian Cinder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666880" cy="264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10960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9814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c0e0"/>
                </a:solidFill>
                <a:latin typeface="Jazz LET"/>
              </a:rPr>
              <a:t>The characters in The Egyptian Cinderella were ….</a:t>
            </a:r>
            <a:r>
              <a:rPr b="0" lang="en-US" sz="4400" spc="-1" strike="noStrike">
                <a:solidFill>
                  <a:srgbClr val="52c0e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Rhodopis ,the Cinderella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master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three slaves,(that mistreat Rhodp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masis,the pr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 falcon,that helps Rhod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160" y="-61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eb12"/>
                </a:solidFill>
                <a:latin typeface="American Typewriter Light"/>
              </a:rPr>
              <a:t>This story was in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799"/>
              </a:spcBef>
              <a:buClr>
                <a:srgbClr val="701416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1416"/>
                </a:solidFill>
                <a:latin typeface="Handwriting - Dakota"/>
              </a:rPr>
              <a:t>Egypt,the place with pyramids</a:t>
            </a:r>
            <a:r>
              <a:rPr b="0" lang="en-US" sz="3200" spc="-1" strike="noStrike">
                <a:solidFill>
                  <a:srgbClr val="701416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5ed6"/>
                </a:solidFill>
                <a:latin typeface="Herculanum"/>
              </a:rPr>
              <a:t>The problem was tha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22a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22a6"/>
                </a:solidFill>
                <a:latin typeface="Bradley Hand ITC TT-Bold"/>
              </a:rPr>
              <a:t>Rhodopis couldn’t go to the ball/par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4238640"/>
            <a:ext cx="3505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Matura MT Script Capitals"/>
              </a:rPr>
              <a:t>The events were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Rhodopis was caught by pirates and became a s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was mistreated by other sla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got red shoes, because she danced so nic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At the ball a falcon dropped a red shoe by the pri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The prince went looking for the owner of the sh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217d"/>
                </a:solidFill>
                <a:latin typeface="Braggadocio"/>
              </a:rPr>
              <a:t>The ending w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65061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5061"/>
                </a:solidFill>
                <a:latin typeface="Curlz MT"/>
              </a:rPr>
              <a:t>Rhodopis and the prince got m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51040" y="2514600"/>
            <a:ext cx="265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37:07Z</dcterms:created>
  <dc:creator>Mits Mits</dc:creator>
  <dc:description/>
  <dc:language>en-US</dc:language>
  <cp:lastModifiedBy>moorel</cp:lastModifiedBy>
  <dcterms:modified xsi:type="dcterms:W3CDTF">2009-06-03T19:32:48Z</dcterms:modified>
  <cp:revision>1</cp:revision>
  <dc:subject/>
  <dc:title>Kat’s power point ….</dc:title>
</cp:coreProperties>
</file>