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8B62-6854-4D85-99ED-A3024007E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C077-8791-41D4-B05C-49FA8286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0013-2336-47C1-9977-821D85743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A0B1-7A96-474B-AFF4-084AAA82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FF09-7073-49DC-843E-898DA05C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B2DF-97F8-4E81-9B4B-7A7F582D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B238-2DCD-4ED1-932F-1B0791B0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68A0-C130-4651-A84E-BEEC5C30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5191-764F-4166-8A27-243C0923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5E1E-9CCC-4799-8458-78131805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F4E5-9F3F-45A6-8D32-6578C2CC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BFD4-B2B3-4742-853F-9A103BA0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5F0E-3442-49E9-91BD-EBEC5A266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Lucida Handwriting"/>
              </a:rPr>
              <a:t>Kat’s power point …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3352680"/>
            <a:ext cx="5867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8000"/>
                </a:solidFill>
                <a:latin typeface="Edwardian Script ITC"/>
              </a:rPr>
              <a:t>On  The Egyptian Cinderell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72200" y="1295280"/>
            <a:ext cx="2666880" cy="2649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4191120"/>
            <a:ext cx="2109600" cy="2133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198144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c0e0"/>
                </a:solidFill>
                <a:latin typeface="Jazz LET"/>
              </a:rPr>
              <a:t>The characters in The Egyptian Cinderella were ….</a:t>
            </a:r>
            <a:r>
              <a:rPr b="0" lang="en-US" sz="4400" spc="-1" strike="noStrike">
                <a:solidFill>
                  <a:srgbClr val="52c0e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6934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e228ec"/>
              </a:buClr>
              <a:buFont typeface="Lucida Blackle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28ec"/>
                </a:solidFill>
                <a:latin typeface="Lucida Blackletter"/>
              </a:rPr>
              <a:t>Rhodopis ,the Cinderella char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e228ec"/>
              </a:buClr>
              <a:buFont typeface="Lucida Blackle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28ec"/>
                </a:solidFill>
                <a:latin typeface="Lucida Blackletter"/>
              </a:rPr>
              <a:t>The master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e228ec"/>
              </a:buClr>
              <a:buFont typeface="Lucida Blackle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28ec"/>
                </a:solidFill>
                <a:latin typeface="Lucida Blackletter"/>
              </a:rPr>
              <a:t>The three slaves,(that mistreat Rhodp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e228ec"/>
              </a:buClr>
              <a:buFont typeface="Lucida Blackle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28ec"/>
                </a:solidFill>
                <a:latin typeface="Lucida Blackletter"/>
              </a:rPr>
              <a:t>Amasis,the pri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e228ec"/>
              </a:buClr>
              <a:buFont typeface="Lucida Blackle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28ec"/>
                </a:solidFill>
                <a:latin typeface="Lucida Blackletter"/>
              </a:rPr>
              <a:t>A falcon,that helps Rhod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68160" y="-61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2eb12"/>
                </a:solidFill>
                <a:latin typeface="American Typewriter Light"/>
              </a:rPr>
              <a:t>This story was in 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>
              <a:lnSpc>
                <a:spcPct val="90000"/>
              </a:lnSpc>
              <a:spcBef>
                <a:spcPts val="799"/>
              </a:spcBef>
              <a:buClr>
                <a:srgbClr val="701416"/>
              </a:buClr>
              <a:buFont typeface="Handwriting - Dakot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1416"/>
                </a:solidFill>
                <a:latin typeface="Handwriting - Dakota"/>
              </a:rPr>
              <a:t>Egypt,the place with pyramids</a:t>
            </a:r>
            <a:r>
              <a:rPr b="0" lang="en-US" sz="3200" spc="-1" strike="noStrike">
                <a:solidFill>
                  <a:srgbClr val="701416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90920" y="3962520"/>
            <a:ext cx="38862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5ed6"/>
                </a:solidFill>
                <a:latin typeface="Herculanum"/>
              </a:rPr>
              <a:t>The problem was that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422a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22a6"/>
                </a:solidFill>
                <a:latin typeface="Bradley Hand ITC TT-Bold"/>
              </a:rPr>
              <a:t>Rhodopis couldn’t go to the ball/part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86200" y="4238640"/>
            <a:ext cx="35053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Matura MT Script Capitals"/>
              </a:rPr>
              <a:t>The events were 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1100"/>
              </a:spcBef>
              <a:buClr>
                <a:srgbClr val="800080"/>
              </a:buClr>
              <a:buFont typeface="Party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Party LET"/>
              </a:rPr>
              <a:t>Rhodopis was caught by pirates and became a sl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1100"/>
              </a:spcBef>
              <a:buClr>
                <a:srgbClr val="800080"/>
              </a:buClr>
              <a:buFont typeface="Party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Party LET"/>
              </a:rPr>
              <a:t>She was mistreated by other slav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1100"/>
              </a:spcBef>
              <a:buClr>
                <a:srgbClr val="800080"/>
              </a:buClr>
              <a:buFont typeface="Party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Party LET"/>
              </a:rPr>
              <a:t>She got red shoes, because she danced so nice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1100"/>
              </a:spcBef>
              <a:buClr>
                <a:srgbClr val="800080"/>
              </a:buClr>
              <a:buFont typeface="Party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Party LET"/>
              </a:rPr>
              <a:t>At the ball a falcon dropped a red shoe by the pri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1100"/>
              </a:spcBef>
              <a:buClr>
                <a:srgbClr val="800080"/>
              </a:buClr>
              <a:buFont typeface="Party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Party LET"/>
              </a:rPr>
              <a:t>The prince went looking for the owner of the sho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217d"/>
                </a:solidFill>
                <a:latin typeface="Braggadocio"/>
              </a:rPr>
              <a:t>The ending wa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65061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5061"/>
                </a:solidFill>
                <a:latin typeface="Curlz MT"/>
              </a:rPr>
              <a:t>Rhodopis and the prince got marri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651040" y="2514600"/>
            <a:ext cx="2654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6:37:07Z</dcterms:created>
  <dc:creator>Mits Mits</dc:creator>
  <dc:description/>
  <dc:language>en-US</dc:language>
  <cp:lastModifiedBy>moorel</cp:lastModifiedBy>
  <dcterms:modified xsi:type="dcterms:W3CDTF">2009-06-03T19:32:48Z</dcterms:modified>
  <cp:revision>1</cp:revision>
  <dc:subject/>
  <dc:title>Kat’s power point ….</dc:title>
</cp:coreProperties>
</file>