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F6F-0376-4BB2-98FA-BA2BD2EE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953-9022-4BA5-B096-1C3842C2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068-284E-4017-9A29-6B9C79B1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CA8-EFEF-435C-A804-5B6724FE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87D-E6A2-4632-9D76-82E09043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C41-51C9-4239-AEA5-31570317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26E-02E0-4D40-8598-F4019457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8F4-37C4-4346-B531-45439177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3CD-A7F3-4A53-BA0F-97C13295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7B1-6D56-4B8E-8E0E-F2515D80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F6D-6798-4DCD-9545-566ECBE3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654-CFAB-456D-936C-3B5AF27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6F05-38BC-4694-920D-EB913F8E2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Lucida Handwriting"/>
              </a:rPr>
              <a:t>Kat’s power point 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Edwardian Script ITC"/>
              </a:rPr>
              <a:t>On  The Egyptian Cinder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666880" cy="264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10960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9814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c0e0"/>
                </a:solidFill>
                <a:latin typeface="Jazz LET"/>
              </a:rPr>
              <a:t>The characters in The Egyptian Cinderella were ….</a:t>
            </a:r>
            <a:r>
              <a:rPr b="0" lang="en-US" sz="4400" spc="-1" strike="noStrike">
                <a:solidFill>
                  <a:srgbClr val="52c0e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Rhodopis ,the Cinderella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mas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three slaves,(that mistreat Rhodp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masis,the pr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 falcon,that helps Rhod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160" y="-61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eb12"/>
                </a:solidFill>
                <a:latin typeface="American Typewriter Light"/>
              </a:rPr>
              <a:t>This story was in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799"/>
              </a:spcBef>
              <a:buClr>
                <a:srgbClr val="701416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1416"/>
                </a:solidFill>
                <a:latin typeface="Handwriting - Dakota"/>
              </a:rPr>
              <a:t>Egypt,the place with pyramids</a:t>
            </a:r>
            <a:r>
              <a:rPr b="0" lang="en-US" sz="3200" spc="-1" strike="noStrike">
                <a:solidFill>
                  <a:srgbClr val="70141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5ed6"/>
                </a:solidFill>
                <a:latin typeface="Herculanum"/>
              </a:rPr>
              <a:t>The problem was tha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22a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22a6"/>
                </a:solidFill>
                <a:latin typeface="Bradley Hand ITC TT-Bold"/>
              </a:rPr>
              <a:t>Rhodopis couldn’t go to the ball/par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423864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Matura MT Script Capitals"/>
              </a:rPr>
              <a:t>The events were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Rhodopis was caught by pirates and became a s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was mistreated by other sla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got red shoes, because she danced so nic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At the ball a falcon dropped a red shoe by the pri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The prince went looking for the owner of the sh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217d"/>
                </a:solidFill>
                <a:latin typeface="Braggadocio"/>
              </a:rPr>
              <a:t>The ending w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65061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5061"/>
                </a:solidFill>
                <a:latin typeface="Curlz MT"/>
              </a:rPr>
              <a:t>Rhodopis and the prince got m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51040" y="2514600"/>
            <a:ext cx="265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37:07Z</dcterms:created>
  <dc:creator>Mits Mits</dc:creator>
  <dc:description/>
  <dc:language>en-US</dc:language>
  <cp:lastModifiedBy>moorel</cp:lastModifiedBy>
  <dcterms:modified xsi:type="dcterms:W3CDTF">2009-06-03T19:32:48Z</dcterms:modified>
  <cp:revision>1</cp:revision>
  <dc:subject/>
  <dc:title>Kat’s power point ….</dc:title>
</cp:coreProperties>
</file>