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DAC-AB02-4D19-8D68-8986ADB2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D2B-FB84-426B-83EA-0C209688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5C0-A3FD-4DAE-97DB-2CC08969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428-048C-4B3B-9FC0-6D1AD02E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FCB-3EE9-4DEB-94F9-30E252AD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C88-E8C4-497C-8DDC-90033F4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831-486B-459F-B4E3-32F734DE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285-397E-4691-A94A-D27DEBEB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B5C-7857-45CA-BE6B-33F4F032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C19-33C2-47FE-9328-CFCC288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22A-A6C7-4A0A-9926-387F843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98E-BD92-47C7-AE7E-1663890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CA60-56A7-4BEA-9D9E-5F788A2A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oorel</cp:lastModifiedBy>
  <dcterms:modified xsi:type="dcterms:W3CDTF">2009-06-03T19:32:48Z</dcterms:modified>
  <cp:revision>1</cp:revision>
  <dc:subject/>
  <dc:title>Kat’s power point ….</dc:title>
</cp:coreProperties>
</file>