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0BE-F0D3-40F8-A774-BB1A0756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3B7-CEDC-4FFA-AE29-9856A28E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1F3-EE50-4078-A9D7-F52315E6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36B-5979-4EA5-8C70-A12C71A2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4E3-8921-4B43-8BC3-0D0CD616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675-9905-4CAE-9308-99329BA0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379-94F7-4EAF-8ABF-A4B2DA32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EF2-ADBB-4496-B971-7C0E6C26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7566-0F17-4D72-AA98-915E80E8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5A3-8490-4246-9E30-82865FBD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D71-0E16-487A-8A84-0510823C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7FA-10AC-42C5-A4D6-42743E63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AF1A-BA44-4B96-A302-9433B6B4F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Lucida Handwriting"/>
              </a:rPr>
              <a:t>Kat’s power point …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3526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Edwardian Script ITC"/>
              </a:rPr>
              <a:t>On  The Egyptian Cinder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72200" y="1295280"/>
            <a:ext cx="2666880" cy="264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10960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19814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c0e0"/>
                </a:solidFill>
                <a:latin typeface="Jazz LET"/>
              </a:rPr>
              <a:t>The characters in The Egyptian Cinderella were ….</a:t>
            </a:r>
            <a:r>
              <a:rPr b="0" lang="en-US" sz="4400" spc="-1" strike="noStrike">
                <a:solidFill>
                  <a:srgbClr val="52c0e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Rhodopis ,the Cinderella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master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The three slaves,(that mistreat Rhodp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masis,the pr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e228ec"/>
              </a:buClr>
              <a:buFont typeface="Lucida Blackle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28ec"/>
                </a:solidFill>
                <a:latin typeface="Lucida Blackletter"/>
              </a:rPr>
              <a:t>A falcon,that helps Rhod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8160" y="-61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2eb12"/>
                </a:solidFill>
                <a:latin typeface="American Typewriter Light"/>
              </a:rPr>
              <a:t>This story was in 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90000"/>
              </a:lnSpc>
              <a:spcBef>
                <a:spcPts val="799"/>
              </a:spcBef>
              <a:buClr>
                <a:srgbClr val="701416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1416"/>
                </a:solidFill>
                <a:latin typeface="Handwriting - Dakota"/>
              </a:rPr>
              <a:t>Egypt,the place with pyramids</a:t>
            </a:r>
            <a:r>
              <a:rPr b="0" lang="en-US" sz="3200" spc="-1" strike="noStrike">
                <a:solidFill>
                  <a:srgbClr val="701416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5ed6"/>
                </a:solidFill>
                <a:latin typeface="Herculanum"/>
              </a:rPr>
              <a:t>The problem was that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22a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22a6"/>
                </a:solidFill>
                <a:latin typeface="Bradley Hand ITC TT-Bold"/>
              </a:rPr>
              <a:t>Rhodopis couldn’t go to the ball/par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6200" y="4238640"/>
            <a:ext cx="35053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Matura MT Script Capitals"/>
              </a:rPr>
              <a:t>The events were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Rhodopis was caught by pirates and became a s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was mistreated by other sla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She got red shoes, because she danced so nice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At the ball a falcon dropped a red shoe by the pri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100"/>
              </a:spcBef>
              <a:buClr>
                <a:srgbClr val="800080"/>
              </a:buClr>
              <a:buFont typeface="Party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Party LET"/>
              </a:rPr>
              <a:t>The prince went looking for the owner of the sh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217d"/>
                </a:solidFill>
                <a:latin typeface="Braggadocio"/>
              </a:rPr>
              <a:t>The ending w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65061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5061"/>
                </a:solidFill>
                <a:latin typeface="Curlz MT"/>
              </a:rPr>
              <a:t>Rhodopis and the prince got marr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51040" y="2514600"/>
            <a:ext cx="265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6:37:07Z</dcterms:created>
  <dc:creator>Mits Mits</dc:creator>
  <dc:description/>
  <dc:language>en-US</dc:language>
  <cp:lastModifiedBy>moorel</cp:lastModifiedBy>
  <dcterms:modified xsi:type="dcterms:W3CDTF">2009-06-03T19:32:48Z</dcterms:modified>
  <cp:revision>1</cp:revision>
  <dc:subject/>
  <dc:title>Kat’s power point ….</dc:title>
</cp:coreProperties>
</file>