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jpeg" ContentType="image/jpeg"/>
  <Override PartName="/ppt/media/image5.pct" ContentType="image/x-pict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E0B2-BF97-4C01-BAFE-8E6C722AF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660E-52FF-42F3-837C-24756822F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6F7C-EC2E-4ED8-BEBC-DB2EFA1B3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8F8D-7584-47E6-8C13-5CD39DC5A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7CD4-48CC-42F6-82FC-2051FA96A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2066-9B0E-4A93-88A6-594ECB6AF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826D-5C74-4802-9FE6-339CA6D8C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81AD-B956-48D9-B842-1AF968855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8248-83C5-43A9-8385-09F392DD3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4EE2-D19B-411B-804B-FBF6C2884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68B9-F5A4-4279-A6FB-C49E392E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32B1-3B44-4D15-846D-AA0E31E16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75471-9FFD-42A3-A9EF-3FE874461A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image" Target="../media/image3.pct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Lucida Handwriting"/>
              </a:rPr>
              <a:t>Kat’s power point …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4920" y="3352680"/>
            <a:ext cx="5867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8000"/>
                </a:solidFill>
                <a:latin typeface="Edwardian Script ITC"/>
              </a:rPr>
              <a:t>On  The Egyptian Cinderell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172200" y="1295280"/>
            <a:ext cx="2666880" cy="2649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04920" y="4191120"/>
            <a:ext cx="2109600" cy="2133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80880" y="1219320"/>
            <a:ext cx="1981440" cy="160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2c0e0"/>
                </a:solidFill>
                <a:latin typeface="Jazz LET"/>
              </a:rPr>
              <a:t>The characters in The Egyptian Cinderella were ….</a:t>
            </a:r>
            <a:r>
              <a:rPr b="0" lang="en-US" sz="4400" spc="-1" strike="noStrike">
                <a:solidFill>
                  <a:srgbClr val="52c0e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8080" y="2209320"/>
            <a:ext cx="69343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e228ec"/>
              </a:buClr>
              <a:buFont typeface="Lucida Blacklet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228ec"/>
                </a:solidFill>
                <a:latin typeface="Lucida Blackletter"/>
              </a:rPr>
              <a:t>Rhodopis ,the Cinderella charac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e228ec"/>
              </a:buClr>
              <a:buFont typeface="Lucida Blacklet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228ec"/>
                </a:solidFill>
                <a:latin typeface="Lucida Blackletter"/>
              </a:rPr>
              <a:t>The master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e228ec"/>
              </a:buClr>
              <a:buFont typeface="Lucida Blacklet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228ec"/>
                </a:solidFill>
                <a:latin typeface="Lucida Blackletter"/>
              </a:rPr>
              <a:t>The three slaves,(that mistreat Rhodp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e228ec"/>
              </a:buClr>
              <a:buFont typeface="Lucida Blacklet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228ec"/>
                </a:solidFill>
                <a:latin typeface="Lucida Blackletter"/>
              </a:rPr>
              <a:t>Amasis,the pri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e228ec"/>
              </a:buClr>
              <a:buFont typeface="Lucida Blacklet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228ec"/>
                </a:solidFill>
                <a:latin typeface="Lucida Blackletter"/>
              </a:rPr>
              <a:t>A falcon,that helps Rhod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68160" y="-617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2eb12"/>
                </a:solidFill>
                <a:latin typeface="American Typewriter Light"/>
              </a:rPr>
              <a:t>This story was in …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0"/>
          </a:bodyPr>
          <a:p>
            <a:pPr marL="102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2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2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2600" indent="-102600">
              <a:lnSpc>
                <a:spcPct val="90000"/>
              </a:lnSpc>
              <a:spcBef>
                <a:spcPts val="799"/>
              </a:spcBef>
              <a:buClr>
                <a:srgbClr val="701416"/>
              </a:buClr>
              <a:buFont typeface="Handwriting - Dakot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1416"/>
                </a:solidFill>
                <a:latin typeface="Handwriting - Dakota"/>
              </a:rPr>
              <a:t>Egypt,the place with pyramids</a:t>
            </a:r>
            <a:r>
              <a:rPr b="0" lang="en-US" sz="3200" spc="-1" strike="noStrike">
                <a:solidFill>
                  <a:srgbClr val="701416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72200" y="320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90920" y="3962520"/>
            <a:ext cx="38862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5ed6"/>
                </a:solidFill>
                <a:latin typeface="Herculanum"/>
              </a:rPr>
              <a:t>The problem was that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422a6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422a6"/>
                </a:solidFill>
                <a:latin typeface="Bradley Hand ITC TT-Bold"/>
              </a:rPr>
              <a:t>Rhodopis couldn’t go to the ball/party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886200" y="4238640"/>
            <a:ext cx="350532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000"/>
                </a:solidFill>
                <a:latin typeface="Matura MT Script Capitals"/>
              </a:rPr>
              <a:t>The events were 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1100"/>
              </a:spcBef>
              <a:buClr>
                <a:srgbClr val="800080"/>
              </a:buClr>
              <a:buFont typeface="Party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Party LET"/>
              </a:rPr>
              <a:t>Rhodopis was caught by pirates and became a sla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1100"/>
              </a:spcBef>
              <a:buClr>
                <a:srgbClr val="800080"/>
              </a:buClr>
              <a:buFont typeface="Party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Party LET"/>
              </a:rPr>
              <a:t>She was mistreated by other slav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1100"/>
              </a:spcBef>
              <a:buClr>
                <a:srgbClr val="800080"/>
              </a:buClr>
              <a:buFont typeface="Party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Party LET"/>
              </a:rPr>
              <a:t>She got red shoes, because she danced so nice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1100"/>
              </a:spcBef>
              <a:buClr>
                <a:srgbClr val="800080"/>
              </a:buClr>
              <a:buFont typeface="Party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Party LET"/>
              </a:rPr>
              <a:t>At the ball a falcon dropped a red shoe by the pri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1100"/>
              </a:spcBef>
              <a:buClr>
                <a:srgbClr val="800080"/>
              </a:buClr>
              <a:buFont typeface="Party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Party LET"/>
              </a:rPr>
              <a:t>The prince went looking for the owner of the sho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217d"/>
                </a:solidFill>
                <a:latin typeface="Braggadocio"/>
              </a:rPr>
              <a:t>The ending wa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65061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5061"/>
                </a:solidFill>
                <a:latin typeface="Curlz MT"/>
              </a:rPr>
              <a:t>Rhodopis and the prince got marri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651040" y="2514600"/>
            <a:ext cx="26542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8T16:37:07Z</dcterms:created>
  <dc:creator>Mits Mits</dc:creator>
  <dc:description/>
  <dc:language>en-US</dc:language>
  <cp:lastModifiedBy>Mits Mits</cp:lastModifiedBy>
  <dcterms:modified xsi:type="dcterms:W3CDTF">2009-05-28T18:05:44Z</dcterms:modified>
  <cp:revision>1</cp:revision>
  <dc:subject/>
  <dc:title>Kat’s power point ….</dc:title>
</cp:coreProperties>
</file>