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jpeg" ContentType="image/jpeg"/>
  <Override PartName="/ppt/media/image5.pct" ContentType="image/x-pict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4BD-6D66-4A97-826B-E9291859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4EA-B547-49B2-8F65-E4CFD7A6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CC5-EA7A-4BE5-8D04-A2F5E3A8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479-26EB-4D3D-A802-7A5A0DFA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C4C-F20F-4C99-8D47-4C1A5A4D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8FF-B9FC-46FD-A9C3-187ECF71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582-0700-4C15-B22C-C0EFC047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FB2-7D34-4D74-997F-3382F118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323-8400-4B34-8E41-9A89772E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D75-104A-4F9E-BD8F-F84B0B32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C2E-7F46-4AEB-938D-9EEB62E6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02E-03FB-410A-BB05-52A1D158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A78F-679E-453F-B70A-891EC30C0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Lucida Handwriting"/>
              </a:rPr>
              <a:t>Kat’s power point …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3526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Edwardian Script ITC"/>
              </a:rPr>
              <a:t>On  The Egyptian Cinder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72200" y="1295280"/>
            <a:ext cx="2666880" cy="264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10960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19814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c0e0"/>
                </a:solidFill>
                <a:latin typeface="Jazz LET"/>
              </a:rPr>
              <a:t>The characters in The Egyptian Cinderella were ….</a:t>
            </a:r>
            <a:r>
              <a:rPr b="0" lang="en-US" sz="4400" spc="-1" strike="noStrike">
                <a:solidFill>
                  <a:srgbClr val="52c0e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Rhodopis ,the Cinderella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master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three slaves,(that mistreat Rhodp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masis,the pr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 falcon,that helps Rhod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8160" y="-61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2eb12"/>
                </a:solidFill>
                <a:latin typeface="American Typewriter Light"/>
              </a:rPr>
              <a:t>This story was in 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90000"/>
              </a:lnSpc>
              <a:spcBef>
                <a:spcPts val="799"/>
              </a:spcBef>
              <a:buClr>
                <a:srgbClr val="701416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1416"/>
                </a:solidFill>
                <a:latin typeface="Handwriting - Dakota"/>
              </a:rPr>
              <a:t>Egypt,the place with pyramids</a:t>
            </a:r>
            <a:r>
              <a:rPr b="0" lang="en-US" sz="3200" spc="-1" strike="noStrike">
                <a:solidFill>
                  <a:srgbClr val="701416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5ed6"/>
                </a:solidFill>
                <a:latin typeface="Herculanum"/>
              </a:rPr>
              <a:t>The problem was that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22a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22a6"/>
                </a:solidFill>
                <a:latin typeface="Bradley Hand ITC TT-Bold"/>
              </a:rPr>
              <a:t>Rhodopis couldn’t go to the ball/par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86200" y="4238640"/>
            <a:ext cx="35053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Matura MT Script Capitals"/>
              </a:rPr>
              <a:t>The events were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Rhodopis was caught by pirates and became a s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was mistreated by other sla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got red shoes, because she danced so nice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At the ball a falcon dropped a red shoe by the pri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The prince went looking for the owner of the sh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217d"/>
                </a:solidFill>
                <a:latin typeface="Braggadocio"/>
              </a:rPr>
              <a:t>The ending w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65061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5061"/>
                </a:solidFill>
                <a:latin typeface="Curlz MT"/>
              </a:rPr>
              <a:t>Rhodopis and the prince got marr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51040" y="2514600"/>
            <a:ext cx="2654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6:37:07Z</dcterms:created>
  <dc:creator>Mits Mits</dc:creator>
  <dc:description/>
  <dc:language>en-US</dc:language>
  <cp:lastModifiedBy>Mits Mits</cp:lastModifiedBy>
  <dcterms:modified xsi:type="dcterms:W3CDTF">2009-05-28T18:05:44Z</dcterms:modified>
  <cp:revision>1</cp:revision>
  <dc:subject/>
  <dc:title>Kat’s power point ….</dc:title>
</cp:coreProperties>
</file>