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pct" ContentType="image/x-pict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3F3-6C80-4D18-8C45-FB3F6785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EA4-4689-4A1E-A13C-39F3CFE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C85-2C97-4F17-BCE2-190AC766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D60-6E6E-4F93-9C57-09393199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076-EB15-41DB-809A-B0DBB218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DA9-3BFA-4B2E-9042-CB7E5BB5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FD1-0BEA-4AC2-8151-40B90091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6A5-B16A-4C2F-8A11-A579904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133-3B69-408B-911A-4894060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BD6-DEDF-4C00-9F1D-7670E12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E55-BDFD-4861-AC77-CD9CFF18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CAF-F36B-4A21-80B5-DBD0A73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546-B8FE-4D44-99AB-9F110461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its Mits</cp:lastModifiedBy>
  <dcterms:modified xsi:type="dcterms:W3CDTF">2009-05-28T18:05:44Z</dcterms:modified>
  <cp:revision>1</cp:revision>
  <dc:subject/>
  <dc:title>Kat’s power point ….</dc:title>
</cp:coreProperties>
</file>