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pct" ContentType="image/x-pict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626-98C2-4168-87E1-ED465BA8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1F5-2C7E-49AE-9DE9-389F40C2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586-7816-4190-BDE2-27FD1AF0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7E8-990D-4D28-87CD-02943095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DAB-3AE7-4C42-8F56-CDF9B53D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5D9-137E-438F-8A47-2A262DDE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6DA-C5FD-4E36-9E25-59B7D3DA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9B2-F0FD-4E50-BA73-A03D8B1F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F67-587A-40F6-BE09-1F897E1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625-57C5-4426-A426-7E1A04A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BAF-65F0-47B7-A048-5133B4E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A6A-EB24-4529-B03B-C04AE86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7525-7AEB-4CC7-AEDC-E386AD340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its Mits</cp:lastModifiedBy>
  <dcterms:modified xsi:type="dcterms:W3CDTF">2009-05-28T18:05:44Z</dcterms:modified>
  <cp:revision>1</cp:revision>
  <dc:subject/>
  <dc:title>Kat’s power point ….</dc:title>
</cp:coreProperties>
</file>